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A1D-B25E-4D7F-9ADF-9F67C77F2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89EB-7C19-4ACA-88AA-CFF2B84FF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0C3-ACFC-4A2A-820E-B9ECCF3D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575-CF84-4794-90B4-06AE9A18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CB5-AE97-44DB-BDBB-21F33748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9A5-C182-41D9-9972-1B0967DC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E19F-61F1-445E-B925-0C6781DA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26EB-2782-4D3C-9611-0181FB3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A82A-71A4-4009-AAE9-6D57D6C0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7D6A-7FD1-4DF0-AD9A-DEE17E80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686-C277-4023-B7DC-70E140F6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1319-C1B6-43B6-B46C-B77C977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EA08-B14D-431C-8A33-1B38CA9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EF2-A9E0-4296-A003-5EA57CA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96B1-0705-4199-B8A6-72618A8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79C0-F820-462A-B063-CEA8C1C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26F9-5AF6-48C1-A5D3-C9403978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D9C-25F8-47FB-BD5F-4F41CE70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9526-7399-4E22-9503-5A1E5EB7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0A6-3289-46CF-884E-D68EEE0F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B0A-0D52-4459-A41F-AA5C0B24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74E-40F2-48FE-9FD0-97F3C9B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B57-50A7-4AF9-AF7F-07BFC726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C52-4B50-494B-A6EF-9978DA7A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0B0-029D-43B9-A7D2-8DA55BA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2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437-5023-44C4-96E2-DC45ABBC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16E6-E046-466D-BE21-EA13AB908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0minfin2"/>
          <p:cNvPicPr/>
          <p:nvPr/>
        </p:nvPicPr>
        <p:blipFill>
          <a:blip r:embed="rId3"/>
          <a:stretch/>
        </p:blipFill>
        <p:spPr>
          <a:xfrm>
            <a:off x="7315200" y="103320"/>
            <a:ext cx="167652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0minfin2"/>
          <p:cNvPicPr/>
          <p:nvPr/>
        </p:nvPicPr>
        <p:blipFill>
          <a:blip r:embed="rId3"/>
          <a:stretch/>
        </p:blipFill>
        <p:spPr>
          <a:xfrm>
            <a:off x="2057400" y="3137040"/>
            <a:ext cx="990720" cy="74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3FBD-FDAF-40C9-9264-CF20C2D3F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9000" y="26668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пециальные налоговые режимы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с 1 января 2009 года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альные налоговые режимы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убъектов малого  бизне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разового талона до 2011 г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патен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снове упрощенной декларации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  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рестьянских или фермерских хозяйст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  Специальный налоговый режим для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юридических лиц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оизводителей сельскохозяйственной продукци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сельских потребительских кооператив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пециальный налоговый режим для субъектов малого бизнес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 перечня видов деятельности, на которые не распространяется СНР, исключены лицензируемые виды дея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дополнение к действовавшим ограничениям по применению СНР,  введено положение, согласно которому  СНР также не вправе применять юридические лица, в которых доля участия других юридических лиц составляет более 25 %, а также юридические лица , у которых учредитель одновременно является учредителем другого юридического лица, применяющего СН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граничение по применению СНР в случае наличия иных обособленных структурных подразделений и объектов налогообложения в разных населенных пунктах не будет распространяться на налогоплательщиков, осуществляющих деятельность по сдаче в аренду иму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пециальный налоговый режим на основе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атента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пользуют труд работников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ют деятельность в форме личного предпринимательств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ход не превышает   200 –кратного миним. размера заработной пла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числение патента: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дох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лата в бюджет в вид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ндивид. под. нало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½ части стоимости патента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оциального нало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– ½ части стоимости патента за минусом социальных отчисле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62520" y="34290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9880" y="3429000"/>
            <a:ext cx="266724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371600" y="6019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ый период –календар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пециальный налоговый режим для субъектов малого бизнеса применяющий СНР на основе упрощенной декларации</a:t>
            </a:r>
            <a:br>
              <a:rPr sz="1800"/>
            </a:b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Organization Chart 10"/>
          <p:cNvGrpSpPr/>
          <p:nvPr/>
        </p:nvGrpSpPr>
        <p:grpSpPr>
          <a:xfrm>
            <a:off x="4876920" y="1600200"/>
            <a:ext cx="3428640" cy="3199320"/>
            <a:chOff x="4876920" y="1600200"/>
            <a:chExt cx="3428640" cy="319932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6732360" y="2737800"/>
              <a:ext cx="640440" cy="92340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5809680" y="2737800"/>
              <a:ext cx="640440" cy="92376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0"/>
            <p:cNvSpPr/>
            <p:nvPr/>
          </p:nvSpPr>
          <p:spPr>
            <a:xfrm>
              <a:off x="5799960" y="160020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Юрид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иц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1"/>
            <p:cNvSpPr/>
            <p:nvPr/>
          </p:nvSpPr>
          <p:spPr>
            <a:xfrm>
              <a:off x="4876920" y="351972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>
              <a:off x="6723000" y="3519720"/>
              <a:ext cx="1582560" cy="127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5 00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ысяч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Organization Chart 20"/>
          <p:cNvGrpSpPr/>
          <p:nvPr/>
        </p:nvGrpSpPr>
        <p:grpSpPr>
          <a:xfrm>
            <a:off x="457200" y="1600200"/>
            <a:ext cx="3580920" cy="3276000"/>
            <a:chOff x="457200" y="1600200"/>
            <a:chExt cx="3580920" cy="3276000"/>
          </a:xfrm>
        </p:grpSpPr>
        <p:cxnSp>
          <p:nvCxnSpPr>
            <p:cNvPr id="109" name="_s1035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2401560" y="2756160"/>
              <a:ext cx="655560" cy="964440"/>
            </a:xfrm>
            <a:prstGeom prst="bentConnector3">
              <a:avLst>
                <a:gd name="adj1" fmla="val 17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6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1437840" y="2756160"/>
              <a:ext cx="655560" cy="964800"/>
            </a:xfrm>
            <a:prstGeom prst="bentConnector3">
              <a:avLst>
                <a:gd name="adj1" fmla="val 17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7"/>
            <p:cNvSpPr/>
            <p:nvPr/>
          </p:nvSpPr>
          <p:spPr>
            <a:xfrm>
              <a:off x="1421280" y="16002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8"/>
            <p:cNvSpPr/>
            <p:nvPr/>
          </p:nvSpPr>
          <p:spPr>
            <a:xfrm>
              <a:off x="457200" y="35658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5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9"/>
            <p:cNvSpPr/>
            <p:nvPr/>
          </p:nvSpPr>
          <p:spPr>
            <a:xfrm>
              <a:off x="2385360" y="3565800"/>
              <a:ext cx="165276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0 00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ысяч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2"/>
          <p:cNvSpPr/>
          <p:nvPr/>
        </p:nvSpPr>
        <p:spPr>
          <a:xfrm>
            <a:off x="304920" y="579132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. период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ендарный        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числение и корректировка СНР на основе упрощенной декларации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числение налогов производится самостоятельно путем применения к объекту налогообложения за отчетный налоговый период ставки в размер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3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ма налогов подлежит корректировке в сторону уменьшения на сумму в размер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,5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уммы налога за каждого работника, исходя из среднесписочной численности работников, если среднемесячная заработная плата работников по итогам отчетного периода составила у ИП не мене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-х кратн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юридических лиц – не менее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,5-кратно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ого размера заработной платы, установленного на соответствующий финансовый год законом о республиканском бюдже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7:59:13Z</dcterms:created>
  <dc:creator>edurmagambetov</dc:creator>
  <dc:description/>
  <dc:language>en-US</dc:language>
  <cp:lastModifiedBy>Customer</cp:lastModifiedBy>
  <dcterms:modified xsi:type="dcterms:W3CDTF">2011-06-08T08:42:46Z</dcterms:modified>
  <cp:revision>113</cp:revision>
  <dc:subject/>
  <dc:title>Специальные налоговые режимы  с 1 января 2009 г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Об утверждении Перечня товаров">
    <vt:lpwstr/>
  </property>
</Properties>
</file>